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4B3-960F-450B-AB36-C8454CA3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F38-3962-4B68-B823-36673D36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E89-5C74-41A5-A995-57787C95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299-12F5-4F59-9F12-D63D2F7A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C62C-E37D-4F16-8412-1BA03EFF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E6F5-60D6-401C-91AA-8A32C001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3CAB-C616-4E9E-9D89-39527455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7779-9EA0-43A3-9671-D8166844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44A7-F6C2-4626-979E-C1419AD1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3CCD-B576-41FD-AA31-9981A0CA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E3FA-CF08-4683-9873-DA5D68DE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A7E-234F-4329-A69E-C091F02D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77E4-9DFA-40C9-AF84-7B75009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7164-CAAC-4050-9029-FEE1E408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4C82-C5CA-4BA9-84D1-7067F8D7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A643-8B26-41CF-ABC7-05669E96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01C2-6C47-420A-87C9-4602BB87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3BE-B664-4C87-8B3C-A6EF489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596-6E21-4D38-96F0-E5097C54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663-54E0-43CC-8959-76D48EE1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423-C536-46ED-A1E7-BAF4CED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987-2A4E-4799-A984-DE55C132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7AE-02BA-4686-9A25-47EB6DBD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C89-E419-4246-985E-32F35B02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8A91-3DEF-485D-891A-56048F981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4AD2-0A87-407C-BE92-D8DA1877F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White-tailed Deer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whitetail-deer-buck"/>
          <p:cNvPicPr/>
          <p:nvPr/>
        </p:nvPicPr>
        <p:blipFill>
          <a:blip r:embed="rId1"/>
          <a:stretch/>
        </p:blipFill>
        <p:spPr>
          <a:xfrm>
            <a:off x="3429000" y="1752480"/>
            <a:ext cx="54100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ting season (rut) begins in September and can last into Janu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abit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de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cealm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ush is most efficiently created by </a:t>
            </a:r>
            <a:r>
              <a:rPr b="0" lang="en-US" sz="3600" spc="-1" strike="noStrike">
                <a:solidFill>
                  <a:srgbClr val="cccc00"/>
                </a:solidFill>
                <a:latin typeface="Times New Roman"/>
              </a:rPr>
              <a:t>clearcut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tting all trees larger than sapl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5" descr="http://www.gotpetsonline.com/pictures-gallery/exotic-pictures-breeders-babies/whitetail-deer-pictures-breeders-babies/pictures/whitetail-deer-0007.jpg"/>
          <p:cNvPicPr/>
          <p:nvPr/>
        </p:nvPicPr>
        <p:blipFill>
          <a:blip r:embed="rId1"/>
          <a:stretch/>
        </p:blipFill>
        <p:spPr>
          <a:xfrm>
            <a:off x="5562720" y="4319640"/>
            <a:ext cx="30477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ite-tailed De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53452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Odocoileus virginianu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underside of tail is covered with white hai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long to family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Cervida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(includes elk, moose, and caribou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lit hoof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Whitetail%20Deer%20tail"/>
          <p:cNvPicPr/>
          <p:nvPr/>
        </p:nvPicPr>
        <p:blipFill>
          <a:blip r:embed="rId1"/>
          <a:stretch/>
        </p:blipFill>
        <p:spPr>
          <a:xfrm>
            <a:off x="6875640" y="3809880"/>
            <a:ext cx="22683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ite-tailed De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Ruminant animal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4-chambered stomach and frequently chew a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“cud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les grow &amp; shed a set of antlers year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in PA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Northern Woodland Whitetai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w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orn with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white spot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for camouflage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(looks like sun hitting the ground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http://whyfiles.org/156cwd_deer/images/faw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0388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re used extensively by Native Americans for food and cl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ulation brought to record low by late 1800’s due to extensive clearing of land, unregulated hunting, and loss of habi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ulation has rebounded dramatically due to changing land uses, strict game laws, and a lack of large natural pred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638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verage adult buck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40 pound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ands 32-34 inches at the should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70 inches long from nose to tai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http://www.agfc.com/critters/gallery/deer/deer4_big.jpg"/>
          <p:cNvPicPr/>
          <p:nvPr/>
        </p:nvPicPr>
        <p:blipFill>
          <a:blip r:embed="rId1"/>
          <a:stretch/>
        </p:blipFill>
        <p:spPr>
          <a:xfrm>
            <a:off x="5638680" y="1295280"/>
            <a:ext cx="33037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en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lorbli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asily alerted by move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od senses of smell &amp; hear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ually sil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ntler Growt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57913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et of antlers grows at 10 months ol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buck comes from an area with poor food conditions, first antlers will be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“spikes”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(single, main beams only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http://www.sportshows.com/images/worcfe1.jpg"/>
          <p:cNvPicPr/>
          <p:nvPr/>
        </p:nvPicPr>
        <p:blipFill>
          <a:blip r:embed="rId1"/>
          <a:stretch/>
        </p:blipFill>
        <p:spPr>
          <a:xfrm>
            <a:off x="5856120" y="1143000"/>
            <a:ext cx="328788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ntler Growth </a:t>
            </a: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(cont.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60958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owing antlers are covered by a skin called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“velvet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tler cycle is influenced by secretions from th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pituitary gla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http://www.coueswhitetail.com/coues_biology/buck%20in%20velvet%20swrs%20jpg_small.JPG"/>
          <p:cNvPicPr/>
          <p:nvPr/>
        </p:nvPicPr>
        <p:blipFill>
          <a:blip r:embed="rId1"/>
          <a:stretch/>
        </p:blipFill>
        <p:spPr>
          <a:xfrm>
            <a:off x="6324480" y="2895480"/>
            <a:ext cx="2365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02:56:39Z</dcterms:created>
  <dc:creator>Jason Turri</dc:creator>
  <dc:description/>
  <dc:language>en-US</dc:language>
  <cp:lastModifiedBy>Hazleton Area School District</cp:lastModifiedBy>
  <dcterms:modified xsi:type="dcterms:W3CDTF">2008-11-13T17:30:19Z</dcterms:modified>
  <cp:revision>12</cp:revision>
  <dc:subject/>
  <dc:title>White-tailed Deer</dc:title>
</cp:coreProperties>
</file>